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A6A6-01D3-45D7-B4ED-A5BB5BFA34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ADE3-3D1A-471A-9648-EF6C964105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67F-67A3-4FBE-B146-D966F7EE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365-EA42-4DEB-84F3-A54D1CA4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3F4-400D-4A22-9B4E-4CCB78D2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85E-FB30-4759-ABFE-1A4A36D7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FED0-855D-4764-8790-55957479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74EF-AC2B-40B9-BC8D-CD2CEED8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1C77-83A5-41C9-B64B-F6DD2BE8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0097-B00A-4EE5-BBB6-DDC17469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57A5-2279-44C7-B106-9957F895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9CA5-3D72-4A20-9A3F-884B66A5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E356-2180-473C-BB80-4E64B7F5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0D4-1967-4242-90F5-B52DEB9B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EC2F-B425-4872-A982-ECF3A0AC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7947-9634-4FF6-8536-076012AD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1BD1-4F5D-4399-B31D-F30046F3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9572-04DC-486F-8B97-BA55DE65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65F7-DE60-483E-AC59-9F6EAC11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4994-C152-4B8F-B39A-1B9F9053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B737-E131-4434-B732-B03D3EDD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1064-931B-422F-B2CF-9B3BEA68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D9AC0-28C7-4068-81CE-96FBAE39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621AA-63D8-49A4-B972-4AE8F057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B6A-B079-42F3-9C97-717D7B5C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79BB1-21F3-463C-99BC-51574BC0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3B623-EFD3-49D8-8FC3-91620F03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2582A-5C54-4810-AE92-04F84159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CD2F-49D4-4C6D-A5E4-120EF816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32FE6-72A0-4A9B-ACF5-7766D801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D3AEB-48CE-42A2-8A36-49D8FDA1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D77B-EA0C-48C4-95E3-81E39D7E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F18EA-0DCA-4029-95BF-F19F6725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C82DE-1F4F-41DA-8312-4F560E3B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C7336-2DCC-47D6-80F4-19ED0119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8D16-7D58-499D-9486-659B34AC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48778-3F4A-417F-8A63-11C13A2E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8D567-03A6-44CB-BEE5-BD5A008A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B6451-CC00-4F60-AEDD-64ED36CB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F483C-7F32-48E7-9084-68BCED7B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A1F76-E7C4-4814-B18F-76286084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06DEB-A759-4469-B473-50A77EE8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DBEC-BF17-458D-A472-7C4629C8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30CB-1283-4E2A-A789-3954504D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571E4-1A03-4F98-B9A3-9C9496A6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208-EA97-442A-A812-E60F62A3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C8E-295A-410A-819C-595A6877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911-1C2C-44F7-9C8D-85A90235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DF6-C233-4E63-9265-9FD94B03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848-FDAB-467B-93BD-1606A18D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EA9B-674B-4D6E-90DE-75CA0C79025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C2AB-BBA7-4AA0-BA6E-F47D3B99D84F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AAB5-8577-4F97-8884-CFE1A8BCBAB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CC66-57E1-421D-937D-BCE866B5C933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BC8C-80A9-4E88-974C-85FFC5BB217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06FF-1D26-4D7C-920E-0C6225A07422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2B54-EB19-43FF-8FBF-1108F887372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047F-CC25-4AB7-9FAA-7289C2FA8F2E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84c2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ункциональные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84c2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роль функциональной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 функциональн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НИОК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84c22"/>
                </a:solidFill>
                <a:uFillTx/>
                <a:latin typeface="Trebuchet MS"/>
              </a:rPr>
              <a:t>Функциональная стратегия </a:t>
            </a: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определяет направление деятельности той или иной функциональной службы (или отдела) внутри одной сферы бизнеса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3499920"/>
            <a:ext cx="822960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ль функциональной стратегии заключается в поддержке общей деловой стратегии и конкурентоспособности фирмы, а также в создании управленческих ориентиров для достижения намеченных функциональных целей компан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71680" y="785880"/>
          <a:ext cx="7858080" cy="5371920"/>
        </p:xfrm>
        <a:graphic>
          <a:graphicData uri="http://schemas.openxmlformats.org/drawingml/2006/table">
            <a:tbl>
              <a:tblPr/>
              <a:tblGrid>
                <a:gridCol w="2060280"/>
                <a:gridCol w="5797800"/>
              </a:tblGrid>
              <a:tr h="56340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стратегическая ори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и сохранение лояльной группы потребителей посредством уникального сочетания товара, сбыта, продвижения и ц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использование производственных возможностей, снижение относительных издержек производства и макси­мизация контроля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 пределах установленного бюджета, упор на прибыльную продукцию, контроль кредита и ми­нимизация стоимости зай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4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изация отчетности, тщательная детализация издержек, стандартизация сде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40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блюдение конкретных спецификаций, ограничение числа моделей и вариантов, концентрация на улучшении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аб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материалов большими однородными партиями по низким ценам и поддержание небольших зап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08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технологических прорывов, улучшение качества продукции, выявление нововве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Производственная стратегия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это долгосрочная программа конкретных действий по созданию и реализации продукции предприятия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30715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ая стратег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размещен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рганизации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 НИОКР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это долгосрочная программа конкретных действий, связанных с созданием нового продукта и технологии производства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ступатель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щит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глощающ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бойничь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Выбор стратегии НИОКР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238" name="Group 219" descr=""/>
          <p:cNvPicPr/>
          <p:nvPr/>
        </p:nvPicPr>
        <p:blipFill>
          <a:blip r:embed="rId1"/>
          <a:stretch/>
        </p:blipFill>
        <p:spPr>
          <a:xfrm>
            <a:off x="487440" y="1420920"/>
            <a:ext cx="8192880" cy="499248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09:26:04Z</dcterms:created>
  <dc:creator>И.В.</dc:creator>
  <dc:description/>
  <dc:language>en-US</dc:language>
  <cp:lastModifiedBy>Толя</cp:lastModifiedBy>
  <dcterms:modified xsi:type="dcterms:W3CDTF">2014-12-01T07:01:49Z</dcterms:modified>
  <cp:revision>5</cp:revision>
  <dc:subject/>
  <dc:title>Функциональные стратегии</dc:title>
</cp:coreProperties>
</file>